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F00-A311-4038-9252-8B7CF551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5AC-381D-4FEA-B4B4-1ADD0DAF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B6C-97C6-4F06-9D0D-13B08B24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90D-2530-4F88-8B7D-8164E2AA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51E-34F8-4B1F-981E-23E0DDF0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377-6EAA-4407-9636-5E6D468D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597-B2EE-4F36-B2D4-D8ABEE3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C15-2696-4C2E-A9A0-8D4E854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82C-5C84-4660-8292-BD585F59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8A3-153E-4A7E-BBD0-747AC965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5C0-E4AE-4DFF-9E11-3CC66D3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32B-A87B-438A-9341-BFD96202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534E-B22F-47A2-9F25-433CF2C90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court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632480" cy="347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95640" y="1052640"/>
            <a:ext cx="46911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school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4608360" cy="3457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48360" y="36450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4416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stru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65660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228600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392720" cy="3295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4732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66517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778280" cy="3584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2998800"/>
            <a:ext cx="475128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37432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iedenkopf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small t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Hesse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out 8.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59770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ur scho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„Gymn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um“ of 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.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02200" y="333360"/>
            <a:ext cx="5041800" cy="378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66610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 the teachers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4751640" cy="35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65883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fe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6435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hntalschule Biedenko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the hall during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4562640" cy="34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4564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8:02:18Z</dcterms:created>
  <dc:creator>NPP</dc:creator>
  <dc:description/>
  <dc:language>en-US</dc:language>
  <cp:lastModifiedBy>St.- Canisius</cp:lastModifiedBy>
  <dcterms:modified xsi:type="dcterms:W3CDTF">2008-06-04T13:35:19Z</dcterms:modified>
  <cp:revision>10</cp:revision>
  <dc:subject/>
  <dc:title>Lahntalschule Biedenkopf</dc:title>
</cp:coreProperties>
</file>